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D847-233A-4EE4-9A40-06ED56ED7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3434-440A-48C6-A711-1F944AC4A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minutes, 28 seconds Video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hitehouse.gov/photos-and-video/video/2010/09/16/a-stem-education-tools-change-worl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nk, Pair, Share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and jot the ideas that stood out to you.  Share these with a partner.  What did you hear that we m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61F-7746-4525-BC1F-FCFA4D8D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774-F75F-4757-AF08-75956AE0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88B-B37F-4317-AF22-9613C284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9FC-2364-4022-939E-C06FFEE8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DC90-6A9B-4F72-86ED-D53D02AC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37F-B2CD-4D93-96E3-595CEBF3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DBE-C3FD-45A6-9E48-7E51FE2F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4AB-647D-448E-BD7F-224DFF20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9CF-007C-4AF8-99DA-C21B0892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920-053F-4F2E-A7AA-8A317144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4D2-FBDD-4BDB-ACB8-8D676A85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AEB-1EA0-495B-8028-F16B21F6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B23B-F5AF-4819-AFBB-47529E3D0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rcRect l="20834" t="30000" r="22919" b="46667"/>
          <a:stretch/>
        </p:blipFill>
        <p:spPr>
          <a:xfrm>
            <a:off x="0" y="-152280"/>
            <a:ext cx="9144000" cy="23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hitehouse.gov/photos-and-video/video/2010/09/16/a-stem-education-tools-change-worl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em.definedlearning.com/connect.cfm?asset_guid=6d37717d-0305-4740-ab70-a5fa946e793c&amp;blnSearch=1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desas.org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efinedstem.wikispaces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IU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efined STEM </a:t>
            </a: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rainer of Trai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David L. Reese, Ed. D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unny Minelli Weilan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avigation of Defined STEM, Exploration and Connecting the Do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 will now have experience of navigating Defined STEM resources.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ease see facilitation script for guidance.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ou will be given time to explore site and areas of interest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ease select one performance task and video.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ease download “connecting the dots” worksheet from “content manager” in learning community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alyze the resources you located in Defined STE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cument your findings related to the elements contained in “Connect the Dot” worksheet!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ob Alike Evalu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technological considerations might need to be addressed to effectively use the Defined STEM resources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can the Defined STEM resources be used in a traditional face to face classroom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can Defined STEM resources be used beyond traditional classroom?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Questions, Considerations and Next Step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 You </a:t>
            </a: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 would like to get to know you! 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is your name?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do you do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do you know about Defined STEM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are your hopes for today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Question for Viewing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  What is the vision for STEM and 21st century learning? 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ideo: 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EM Education-Tools to Change the World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valuation of Defined STEM Resources as these connect to the 21st Century Workpla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cus for viewing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viewing video, participants should jot down: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nt connections in relation to Academic Standard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kill applications – Performance standard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reativity &amp; Innov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ork Environment &amp; Collabor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ideo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ing Virtual Technology to Assist in Rocket Desig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take two minutes to independently document observations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 groups, identify top 5 connections related to the area of focus.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ssign a recorder to document top 5 list using non-linguistic representatio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ssign a reporter to share the findings of the small group with the large group.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flection and Exit Ticket for Break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go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desas.org/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login to SAS.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f participants you not have login information, please create account using the following steps: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lick “login” in upper right hand corne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lick “join now”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mplete registration informat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nter information as prompted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nce you have login, click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“teacher tools”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in upper right corner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selec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“learning communities”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arch for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“PAIUnet:  Defined STEM Learning Community”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lec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“join now”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select forum titled: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EM Education and the 21st Century Workpla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ithin STEM Education and the 21st Century Workplace forum, please respond to the following prompt: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ed upon viewing and evaluating one Defined STEM video, Using Virtual Technology to Assist in Rocket Design, shar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e finding that aligns with your vision for STEM education; an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ne finding that aligns with the 21st century workplace.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coming Expert and Applic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ach group will research an assigned area of focus and will create a “Cheat Sheet” identifying critical components of one of the following: 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bb’s Depth of Knowledg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fferentiated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ltiple Intelligen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21:  Learning and Innovation Skill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 assist you in becoming experts, please visi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efinedstem.wikispaces.com/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ou will have 15 minutes to “become experts.”  Please agree on essential elements of concept in preparation for a “jigsaw!”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ach member of expert team should document the “essential elements” determined by the group to take to jigsaw groups.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Jigsaw!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re is now one expert member in each new grou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1 minute sharing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formance task in Defined STEM &amp; Vide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rea of Focus:  Technology/Art/Scienc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oral Design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viewing resources, please jot down connections to your area of expertise: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bb’s Depth of Knowledg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fferentiated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ltiple Intelligen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21:  Learning and Innovation Skill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lease share in jigsaw groups key ideas and connections in the Defined STEM performance task and video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xit Ticket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 PAIUnet:  Defined Stem Learning Community, please select one of the following forums and respond!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1st Century Learning and Innovation Skill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w do Defined STEM resources provide opportunities for students to apply 21st century learning and innovation skills?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ultiple Intelligenc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w do resources in Defined STEM empower learners through the multiple intelligences?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ebb's Depth of Knowledg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w do resources in Defined STEM connect with higher levels of Webb's Depth of Knowledge?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fferentiated Instruc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ow do Defined STEM resources support differentiation of content, assessment and instruction?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1:32:16Z</dcterms:created>
  <dc:creator>sweiland</dc:creator>
  <dc:description/>
  <dc:language>en-US</dc:language>
  <cp:lastModifiedBy>GuestIU20</cp:lastModifiedBy>
  <dcterms:modified xsi:type="dcterms:W3CDTF">2011-05-10T18:18:49Z</dcterms:modified>
  <cp:revision>9</cp:revision>
  <dc:subject/>
  <dc:title>PAIUnet Defined STEM  Trainer of Trainers</dc:title>
</cp:coreProperties>
</file>